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C999-8A4C-4366-A759-11BBC746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AF4-5E1B-4174-AECA-BC135F80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11E0-5BAD-457A-AFC5-27F15510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4FD-FE70-4AED-9922-40246656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2EC-5F8E-41DD-9763-B0FF0CF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F00-A08B-4CF4-AE3D-C09119C2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10F-02BD-4B3B-97FE-6B8442D4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238-F8A7-433D-B8F7-269DD616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1E1-84A5-4974-A489-69867836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67A-6B08-4279-84CD-2CA56F9D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A062-B853-4FC8-BBFD-5CE8999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F280-C556-40C8-9377-102DAAEC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2F3F-50B2-4C3B-9A45-FD498C75E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86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On considère une </a:t>
            </a:r>
            <a:r>
              <a:rPr b="0" lang="fr-FR" sz="2800" spc="-1" strike="noStrike">
                <a:solidFill>
                  <a:srgbClr val="ff66ff"/>
                </a:solidFill>
                <a:latin typeface="Times New Roman"/>
              </a:rPr>
              <a:t>spire carré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e 5 cm de côté, mobile autour </a:t>
            </a:r>
            <a:r>
              <a:rPr b="0" lang="fr-FR" sz="2800" spc="-1" strike="noStrike">
                <a:solidFill>
                  <a:srgbClr val="00cc00"/>
                </a:solidFill>
                <a:latin typeface="Times New Roman"/>
              </a:rPr>
              <a:t>d’un axe (d).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480" indent="-6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ff"/>
                </a:solidFill>
                <a:latin typeface="Times New Roman"/>
              </a:rPr>
              <a:t>Cette spir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parcourue par un courant </a:t>
            </a: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d’intensité I = 4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est placée dans </a:t>
            </a: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un champ magnétiqu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d’intensité B = 0,1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4419720"/>
            <a:ext cx="533520" cy="1981080"/>
          </a:xfrm>
          <a:custGeom>
            <a:avLst/>
            <a:gdLst>
              <a:gd name="textAreaLeft" fmla="*/ 0 w 533520"/>
              <a:gd name="textAreaRight" fmla="*/ 192600 w 5335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68400" y="449568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000" y="53341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conséqu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86200" y="4419720"/>
            <a:ext cx="533520" cy="1981080"/>
          </a:xfrm>
          <a:custGeom>
            <a:avLst/>
            <a:gdLst>
              <a:gd name="textAreaLeft" fmla="*/ 0 w 533520"/>
              <a:gd name="textAreaRight" fmla="*/ 192600 w 5335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68400" y="449568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1280" y="5029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conséqu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3120" y="5564160"/>
            <a:ext cx="1907280" cy="642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4419720"/>
            <a:ext cx="533520" cy="1981080"/>
          </a:xfrm>
          <a:custGeom>
            <a:avLst/>
            <a:gdLst>
              <a:gd name="textAreaLeft" fmla="*/ 0 w 533520"/>
              <a:gd name="textAreaRight" fmla="*/ 192600 w 5335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68400" y="449568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1280" y="5029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conséqu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3840" y="4952880"/>
            <a:ext cx="1907280" cy="642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324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5943600"/>
            <a:ext cx="190476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D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39080" y="1828800"/>
            <a:ext cx="41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Times New Roman"/>
              </a:rPr>
              <a:t>Je réponds à la ques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62520" y="2743200"/>
            <a:ext cx="474012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Les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côtés AD et BC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sont soumis chacun à une force électromagnétique perpendiculaire au plan de la spir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b- Calculer pour les deux côtés l’intensité F commune des forces électromagné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b- Calculer pour les deux côtés l’intensité F commune des forces électromagné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792600" y="1793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établi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4800" y="228600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b- Calculer pour les deux côtés l’intensité F commune des forces électromagné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92600" y="1793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établi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14800" y="228600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01480" y="2286000"/>
            <a:ext cx="20764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 .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b- Calculer pour les deux côtés l’intensité F commune des forces électromagné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792600" y="1793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établi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14800" y="228600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01480" y="2286000"/>
            <a:ext cx="20764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 .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8360" y="28195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b- Calculer pour les deux côtés l’intensité F commune des forces électromagné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92600" y="1793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établi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228600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01480" y="2286000"/>
            <a:ext cx="20764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 .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8360" y="28195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4520" y="31240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35920" y="312408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660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b- Calculer pour les deux côtés l’intensité F commune des forces électromagné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92600" y="1793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établi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4800" y="228600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01480" y="2286000"/>
            <a:ext cx="20764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 .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8360" y="28195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4520" y="31240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35920" y="312408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9660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72160" y="3699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o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b- Calculer pour les deux côtés l’intensité F commune des forces électromagné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792600" y="1793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établi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4800" y="228600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01480" y="2286000"/>
            <a:ext cx="20764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 .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88360" y="28195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574520" y="31240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5920" y="312408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09660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72160" y="3699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o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69560" y="4156200"/>
            <a:ext cx="16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234120" y="4156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b- Calculer pour les deux côtés l’intensité F commune des forces électromagné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792600" y="1793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établi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228600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801480" y="2286000"/>
            <a:ext cx="20764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 .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8360" y="28195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74520" y="31240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35920" y="312408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9660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72160" y="3699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o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69560" y="4156200"/>
            <a:ext cx="16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234120" y="4156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47400" y="453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b- Calculer pour les deux côtés l’intensité F commune des forces électromagnét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792600" y="17938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établi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114800" y="228600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801480" y="2286000"/>
            <a:ext cx="20764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 .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88360" y="28195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74520" y="3124080"/>
            <a:ext cx="8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920" y="312408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6600" y="3124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872160" y="369900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o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669560" y="4156200"/>
            <a:ext cx="165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234120" y="41562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0,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24280" y="5006880"/>
            <a:ext cx="3421080" cy="15019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AD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= F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Times New Roman"/>
              </a:rPr>
              <a:t>BC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= 0,02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47400" y="45370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21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c- Calculer le moment du couple électromagné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c- Calculer le moment du couple électromagné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495680" y="2971800"/>
            <a:ext cx="3886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RAPPE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c- Calculer le moment du couple électromagné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67800" y="1600200"/>
            <a:ext cx="444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Moment d’un cou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105520" y="2438280"/>
            <a:ext cx="3197160" cy="71820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600" spc="-1" strike="noStrike" baseline="-25000">
                <a:solidFill>
                  <a:srgbClr val="ff3300"/>
                </a:solidFill>
                <a:latin typeface="Times New Roman"/>
              </a:rPr>
              <a:t>(d)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( F ) = F .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248520" y="2514600"/>
            <a:ext cx="304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724280" y="3733920"/>
            <a:ext cx="35053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Livr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3 page 107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21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c- Calculer le moment du couple électromagné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108400" y="2057400"/>
            <a:ext cx="2413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( F ) = F .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913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c- Calculer le moment du couple électromagné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108400" y="2057400"/>
            <a:ext cx="2413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( F ) = F .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100480" y="3200400"/>
            <a:ext cx="35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( F ) = 0,02 x 0,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7913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6212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c- Calculer le moment du couple électromagnét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08400" y="2057400"/>
            <a:ext cx="2413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( F ) = F .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13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00480" y="3200400"/>
            <a:ext cx="35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( F ) = 0,02 x 0,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7913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824000" y="4800600"/>
            <a:ext cx="3821400" cy="7034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( F ) = 0,01 N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3868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- Représenter sur la vue de dessus le couple de forces électromagnétiques ( échelle: 1 cm pour 0,01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1828800"/>
            <a:ext cx="685800" cy="243828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4720" y="281952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- Représenter sur la vue de dessus le couple de forces électromagnétiques ( échelle: 1 cm pour 0,01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741840" y="2286000"/>
            <a:ext cx="540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Utilisons la règle du bonhomme d’Amp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0611000">
            <a:off x="3353760" y="28940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- Représenter sur la vue de dessus le couple de forces électromagnétiques ( échelle: 1 cm pour 0,01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10609200">
            <a:off x="3123360" y="350496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2438280" y="3657600"/>
            <a:ext cx="609840" cy="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105520" y="312408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Le bonhomme regarde dans le sens des lignes de ch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251460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29528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320040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456840" y="2582640"/>
            <a:ext cx="609480" cy="1800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2952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1066680" y="31240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1218960" y="32767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2193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3200400" y="31237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3048120" y="3047760"/>
            <a:ext cx="3045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3047760" y="274284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048120" y="243792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304776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2971440" y="3276720"/>
            <a:ext cx="2057400" cy="3045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 flipV="1">
            <a:off x="1752480" y="2743200"/>
            <a:ext cx="3276720" cy="5335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872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10611000">
            <a:off x="3353760" y="28940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- Représenter sur la vue de dessus le couple de forces électromagnétiques ( échelle: 1 cm pour 0,01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rot="10609200">
            <a:off x="3123360" y="350496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2438280" y="3657600"/>
            <a:ext cx="609840" cy="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3428640" y="2133720"/>
            <a:ext cx="6858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on bras gauche donne le sens de la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05520" y="312408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Le bonhomme regarde dans le sens des lignes de ch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0040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200400" y="31237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3048120" y="3047760"/>
            <a:ext cx="3045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 flipV="1">
            <a:off x="3047760" y="274284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3048120" y="243792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304776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1218960" y="2133720"/>
            <a:ext cx="281916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2971440" y="3276720"/>
            <a:ext cx="2057400" cy="3045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1752480" y="2743200"/>
            <a:ext cx="3276720" cy="5335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143000" y="251460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29528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952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066680" y="31240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1218960" y="32767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193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456840" y="2582640"/>
            <a:ext cx="609480" cy="1800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rot="10611000">
            <a:off x="3353760" y="28940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- Représenter sur la vue de dessus le couple de forces électromagnétiques ( échelle: 1 cm pour 0,01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rot="10609200">
            <a:off x="3123360" y="350496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438280" y="3657600"/>
            <a:ext cx="609840" cy="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3428640" y="2133720"/>
            <a:ext cx="6858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05520" y="312408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Le bonhomme regarde dans le sens des lignes de ch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76720" y="40384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56720" y="4648320"/>
            <a:ext cx="788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9900cc"/>
                </a:solidFill>
                <a:latin typeface="Times New Roman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05320" y="4724280"/>
            <a:ext cx="4572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20040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200400" y="31237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 flipV="1">
            <a:off x="3048120" y="3047760"/>
            <a:ext cx="3045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3047760" y="274284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048120" y="243792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304776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1218960" y="2133720"/>
            <a:ext cx="281916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2971440" y="3276720"/>
            <a:ext cx="2057400" cy="3045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1752480" y="2743200"/>
            <a:ext cx="3276720" cy="5335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03848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on bras gauche donne le sens de la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124080" y="4343400"/>
            <a:ext cx="0" cy="83808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143000" y="251460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9528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952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1066680" y="31240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1218960" y="32767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193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 flipV="1">
            <a:off x="456840" y="2582640"/>
            <a:ext cx="609480" cy="1800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rot="10611000">
            <a:off x="3353760" y="28940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- Représenter sur la vue de dessus le couple de forces électromagnétiques ( échelle: 1 cm pour 0,01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rot="10609200">
            <a:off x="3123360" y="350496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2438280" y="3657600"/>
            <a:ext cx="609840" cy="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3428640" y="2133720"/>
            <a:ext cx="6858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05520" y="312408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Le bonhomme regarde dans le sens des lignes de ch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276720" y="40384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V="1">
            <a:off x="320040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3200400" y="31237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3048120" y="3047760"/>
            <a:ext cx="3045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047760" y="274284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3048120" y="243792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304776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1218960" y="2133720"/>
            <a:ext cx="281916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34800" y="5486400"/>
            <a:ext cx="81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9900cc"/>
                </a:solidFill>
                <a:latin typeface="Times New Roman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0880" y="5562720"/>
            <a:ext cx="4572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971440" y="3276720"/>
            <a:ext cx="2057400" cy="3045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743200"/>
            <a:ext cx="3276720" cy="5335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066680" y="3276720"/>
            <a:ext cx="0" cy="2209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38480" y="175248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on bras gauche donne le sens de la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56720" y="4648320"/>
            <a:ext cx="788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9900cc"/>
                </a:solidFill>
                <a:latin typeface="Times New Roman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505320" y="4724280"/>
            <a:ext cx="4572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3124080" y="4343400"/>
            <a:ext cx="0" cy="83808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447920" y="5181480"/>
            <a:ext cx="0" cy="91440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143000" y="251460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29528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2952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1066680" y="31240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H="1">
            <a:off x="1218960" y="32767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2193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 flipV="1">
            <a:off x="456840" y="2582640"/>
            <a:ext cx="609480" cy="1800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10611000">
            <a:off x="3353760" y="28940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- Représenter sur la vue de dessus le couple de forces électromagnétiques ( échelle: 1 cm pour 0,01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rot="10609200">
            <a:off x="3123360" y="350496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438280" y="3657600"/>
            <a:ext cx="609840" cy="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3428640" y="2133720"/>
            <a:ext cx="6858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105520" y="3124080"/>
            <a:ext cx="321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Le bonhomme regarde dans le sens des lignes de ch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200400" y="2971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00400" y="31237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 flipV="1">
            <a:off x="3048120" y="3047760"/>
            <a:ext cx="304560" cy="75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3047760" y="274284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3048120" y="243792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04776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1218960" y="2133720"/>
            <a:ext cx="2819160" cy="990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971440" y="3276720"/>
            <a:ext cx="2057400" cy="30456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1752480" y="2743200"/>
            <a:ext cx="3276720" cy="5335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114800" y="4343400"/>
            <a:ext cx="4740120" cy="2043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e couple de forces tend à faire tourner le cadre dans le sens contraire des aiguilles d’une mon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03848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on bras gauche donne le sens de la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1045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34800" y="5486400"/>
            <a:ext cx="81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9900cc"/>
                </a:solidFill>
                <a:latin typeface="Times New Roman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80880" y="5562720"/>
            <a:ext cx="4572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05320" y="4724280"/>
            <a:ext cx="4572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3124080" y="4343400"/>
            <a:ext cx="0" cy="83808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447920" y="5181480"/>
            <a:ext cx="0" cy="91440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456720" y="4648320"/>
            <a:ext cx="788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9900cc"/>
                </a:solidFill>
                <a:latin typeface="Times New Roman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066680" y="3276720"/>
            <a:ext cx="0" cy="2209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23880" y="5943600"/>
            <a:ext cx="1905120" cy="6858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276720" y="4038480"/>
            <a:ext cx="0" cy="99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143000" y="2514600"/>
            <a:ext cx="22860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295280" y="2743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295280" y="289548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1066680" y="31240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1218960" y="32767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2193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456840" y="2582640"/>
            <a:ext cx="609480" cy="1800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e- Quelle sera la position que prendra la spire soumise à ce coupl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33520" y="990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e- Quelle sera la position que prendra la spire soumise à ce coupl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sp>
        <p:nvSpPr>
          <p:cNvPr id="1096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2965680" cy="167796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>
            <a:off x="6477120" y="3276720"/>
            <a:ext cx="0" cy="167616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6477120" y="411444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554880" y="3886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55488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55524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041720" y="220968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osition prise par la sp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581280" y="4495680"/>
            <a:ext cx="1371600" cy="60984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34800" y="5486400"/>
            <a:ext cx="819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9900cc"/>
                </a:solidFill>
                <a:latin typeface="Times New Roman"/>
              </a:rPr>
              <a:t>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0880" y="5562720"/>
            <a:ext cx="4572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4724280"/>
            <a:ext cx="457200" cy="0"/>
          </a:xfrm>
          <a:prstGeom prst="line">
            <a:avLst/>
          </a:prstGeom>
          <a:ln w="93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124080" y="4343400"/>
            <a:ext cx="0" cy="83808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447920" y="5181480"/>
            <a:ext cx="0" cy="91440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456720" y="4648320"/>
            <a:ext cx="788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</a:rPr>
              <a:t>F</a:t>
            </a:r>
            <a:r>
              <a:rPr b="0" lang="en-US" sz="3600" spc="-1" strike="noStrike" baseline="-25000">
                <a:solidFill>
                  <a:srgbClr val="9900cc"/>
                </a:solidFill>
                <a:latin typeface="Times New Roman"/>
              </a:rPr>
              <a:t>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5257800"/>
            <a:ext cx="1905120" cy="6858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3352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- On considère la position de la spire représentée sur le schéma. Représenter sur le schéma les forces électromagné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791520" y="1793880"/>
            <a:ext cx="52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s’exerçant sur les conducteurs AD et B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352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- On considère la position de la spire représentée sur le schéma. Représenter sur le schéma les forces électromagné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1156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791520" y="1793880"/>
            <a:ext cx="52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s’exerçant sur les conducteurs AD et B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" descr=""/>
          <p:cNvPicPr/>
          <p:nvPr/>
        </p:nvPicPr>
        <p:blipFill>
          <a:blip r:embed="rId3"/>
          <a:stretch/>
        </p:blipFill>
        <p:spPr>
          <a:xfrm>
            <a:off x="4952880" y="3352680"/>
            <a:ext cx="2965680" cy="167796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6477120" y="3276720"/>
            <a:ext cx="0" cy="167616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477120" y="411444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554880" y="3886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55488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55524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6477120" y="2437920"/>
            <a:ext cx="0" cy="838440"/>
          </a:xfrm>
          <a:prstGeom prst="line">
            <a:avLst/>
          </a:prstGeom>
          <a:ln w="7632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77120" y="4952880"/>
            <a:ext cx="0" cy="914400"/>
          </a:xfrm>
          <a:prstGeom prst="line">
            <a:avLst/>
          </a:prstGeom>
          <a:ln w="7632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1828800"/>
            <a:ext cx="685800" cy="243828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68400" y="198108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3400" y="27432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conséqu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1828800"/>
            <a:ext cx="685800" cy="243828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68400" y="198108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1280" y="25146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conséqu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3120" y="3049560"/>
            <a:ext cx="1907280" cy="642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1828800"/>
            <a:ext cx="685800" cy="243828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68400" y="198108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1280" y="25146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conséqu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3120" y="3049560"/>
            <a:ext cx="1907280" cy="642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960" y="35053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828800"/>
            <a:ext cx="685800" cy="243828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68400" y="198108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1280" y="25146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conséqu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93120" y="3049560"/>
            <a:ext cx="1907280" cy="642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960" y="35053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191120" y="403848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880" y="1828800"/>
            <a:ext cx="685800" cy="2438280"/>
          </a:xfrm>
          <a:custGeom>
            <a:avLst/>
            <a:gdLst>
              <a:gd name="textAreaLeft" fmla="*/ 0 w 685800"/>
              <a:gd name="textAreaRight" fmla="*/ 247680 w 6858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68400" y="198108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9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1280" y="25146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 conséqu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3120" y="3049560"/>
            <a:ext cx="1907280" cy="642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Sin </a:t>
            </a:r>
            <a:r>
              <a:rPr b="0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960" y="35053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962520"/>
            <a:ext cx="22096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.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77800" y="3962520"/>
            <a:ext cx="20764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= I . B . 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Le cadre mob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048120" cy="2479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2743200" cy="16336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371960" y="4114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96720" y="60958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ue de des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21337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295280" y="3962520"/>
            <a:ext cx="198144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295280" y="2133720"/>
            <a:ext cx="0" cy="182880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295280" y="2666520"/>
            <a:ext cx="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3120" y="3199680"/>
            <a:ext cx="8640" cy="228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828800" y="289548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752480" y="35053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6200" y="243828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8520" y="3048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143000" y="487692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1143000" y="5715000"/>
            <a:ext cx="914400" cy="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760" y="5171040"/>
            <a:ext cx="227880" cy="212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181480"/>
            <a:ext cx="1676160" cy="0"/>
          </a:xfrm>
          <a:prstGeom prst="line">
            <a:avLst/>
          </a:prstGeom>
          <a:ln w="572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9200" y="4572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1828800"/>
            <a:ext cx="0" cy="24382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4419720"/>
            <a:ext cx="533520" cy="1981080"/>
          </a:xfrm>
          <a:custGeom>
            <a:avLst/>
            <a:gdLst>
              <a:gd name="textAreaLeft" fmla="*/ 0 w 533520"/>
              <a:gd name="textAreaRight" fmla="*/ 192600 w 5335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68400" y="518148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ngle entre B et I mesure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990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a- Quels sont les côtés de la spire soumis à une force électromagnétiq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21:38:33Z</dcterms:created>
  <dc:creator>LUCOTTE-LE VISAGE</dc:creator>
  <dc:description/>
  <dc:language>en-US</dc:language>
  <cp:lastModifiedBy>LUCOTTE-LE VISAGE</cp:lastModifiedBy>
  <dcterms:modified xsi:type="dcterms:W3CDTF">2003-02-17T23:30:53Z</dcterms:modified>
  <cp:revision>18</cp:revision>
  <dc:subject/>
  <dc:title>Le cadre mobile</dc:title>
</cp:coreProperties>
</file>